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9B47-D2E9-4118-B7DA-7B78F782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7C2-454E-4819-AE23-B14B26BE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AA6E-0E6F-4D08-BBF7-64B60A97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A9F-2705-46C3-AD8C-D104AD1C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309-2CA1-4393-9EBC-FB21E454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420-7720-4225-A138-63FA1FE9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B0F-776A-45B5-9902-37D59419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4AA-80D9-4457-AF14-2E4801F7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CDF-A00E-4CEB-B38A-A037D4BD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1730-4289-4C37-A2A6-61B7F696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8DF-B3E7-47DD-A1CD-BAE21E60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705-284D-4092-A888-551394AE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9ADF-9D3A-4207-A343-906C1A298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333399"/>
                </a:solidFill>
                <a:latin typeface="Arial"/>
              </a:rPr>
              <a:t>WOLRD CREAMS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WOLRD CREAMS FOR YOUR WILDEST DREAMS. WE HAVE ICE CREAM FROM FIVE STAR CREAMERRES ALL OVER THE WOLR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